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A46-909E-4EE7-A307-294CE0A2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198-B935-4642-8464-8C439FA5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E7C-909F-4D29-BF78-14CDFB44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D74-3354-42F4-A0AE-A6A5DA58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BEF-CF7C-45B3-BAA8-2D276504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572-7E4E-4B89-A475-7BD8B04C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4A4-160A-49A4-8E92-D5F2BEE4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317-9240-4841-A153-97E30AC9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D96-FE1F-4942-B36C-C752DAAA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4D5-FD93-4B34-84CC-337EF121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C65-3D50-4BD0-BBDC-2A5E292A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E59-FCD7-4FC9-A6D6-52769C1B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9E39-539E-4659-8F0B-AE32979D9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diós, Cord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poldo 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í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791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3733920"/>
            <a:ext cx="1817640" cy="102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80773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di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áfico: Clarín nació en Asturias, una provincia en la costa norte central de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guístico: Noten las diferencia en el habla popular de esta re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órico: En 1833, cuando murió Fernando VII, su hija heredó el poder; por ser mujer, el hermano de Fernando, Carlos, llegó al tro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18255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sataron tres guerras civiles conocidas como la guerras carlistas que resultaron en una época difícil para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1868, se comenzó a industrializarse el país, surgiendo una clase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indianos que se mencionan en el cuento eran los españoles que habían ido a Amé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146376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abemos la identidad de Cord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es son los dos elementos fuera de lugar en un lugar tan apacible como “el prao Somonte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Puedes describir la metonimia que el autor usa para referirse al ferrocarr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reaccionan los personajes del cuento ante estos elem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857160" cy="87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8097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es la vida del pr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la relación entre los dos hermanos y Cord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nos revela el autor la realidad social y los problemas económicos para los pobres en Españ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dos eventos cambian la vida idílica de los herm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6639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as cosi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Puedes apreciar el naturalismo y el realismo en este cuento? ¿De qué se tratan estas corrientes literari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uentra ejemplos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áf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min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de rit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28987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2:16:27Z</dcterms:created>
  <dc:creator>STORNA</dc:creator>
  <dc:description/>
  <dc:language>en-US</dc:language>
  <cp:lastModifiedBy>storna</cp:lastModifiedBy>
  <dcterms:modified xsi:type="dcterms:W3CDTF">2005-11-28T21:00:41Z</dcterms:modified>
  <cp:revision>4</cp:revision>
  <dc:subject/>
  <dc:title>Adiós, Cordera</dc:title>
</cp:coreProperties>
</file>